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189C-FD4A-4EFE-93F1-4A73A665F43D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82D9-0CE0-43B5-819F-1C8EE061CE80}" type="slidenum">
              <a:rPr b="0" lang="he-I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09C0-B20C-485E-91E2-308BC500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10A5-EF80-4B45-AC73-9846FE9E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D1F21-2FDD-4094-94F5-6DC9978A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EB25B-61BF-48FC-B641-96700658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B43C2-2AC2-4E2B-9625-B375C7E8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0F018-7B30-41D6-BD10-2D46C680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89D50-70FD-4D67-9708-4270CD9A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F4EF0-F873-4EB6-9BFD-1077F434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6DD65-74BB-456F-BD5A-E0090F6D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532EA-D9DB-42CE-9F56-81F22E8A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B975A-A3BD-4138-918C-6665F55C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83A7A-E48B-4FE2-98CE-7EBFA7C0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90BB-CA01-4CF3-B9B9-BF074BA0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17848-8367-494B-9C53-8400B633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E551F-FA1B-4C3B-AF6B-EA50BE31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85899-C025-47C3-9F4A-9CA6306D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49518-91A9-4931-B57C-E5F74BEE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DB899-F3D0-4CC0-9CFE-6061565A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444C8-67EB-449B-83E7-F689DA6A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BC948-AA66-4D70-BDC7-E9369199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2A989-B5DA-460B-A05D-3786906A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33213-CDAB-48D0-BA4F-E562298D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ABDFA-B245-4643-9207-FECEC0F1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E72E-0960-4746-9C82-6CB5D4E8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0D681-A87D-4809-932E-8E13ED09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A1A10-83A8-40BB-A900-2CDF8633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267F2-9858-4650-BD13-DBBCE798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21BCB-D122-4B16-A9B9-8FDA075C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5F64B-E5D3-44EE-A2F6-342F9975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60476-089A-4FC3-9EA0-0A131D1C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A0DC0-232C-44E5-98B1-9B03E88D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B52DA-6E0D-4023-B55E-DCA59118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0F8B1-DC55-4470-AD29-7C99F43B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D708F-8976-4E32-8B24-2F4A6004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25AE-C59B-4A95-98A8-28FE2D73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93BD6-866E-4A94-BDE5-0FCDE802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060D9-B9A3-41F4-AD52-725AD7A4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00D6F-C89D-42DF-955C-981D63B4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B5DD7-8EC3-4138-B698-2583FC65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C2933-FB35-457F-AB4E-F2123338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3C9FF-4FBF-4CD3-BECA-E83DFFBD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33F06-3F95-410A-B8F3-3E2AE4B7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46EF0-1481-48DA-ADD1-923A8F47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9165B-3F34-4677-84B7-57752E4A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98394-3B80-44AB-A01D-E738695D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D4EE-7D11-47E1-AE9A-F06F1F35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0084F-2E10-4AA0-8D0C-37495026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7F871-7043-4D97-8E0F-5DE0E368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6DFC1-7442-497F-8374-92C3207D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AED58-FDCC-4B2B-A5BF-25376175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5E5F8-E1B8-4711-B8EF-DA6314CE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11C5C6-9683-4AA8-AE1D-A0647DBD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DA9364-C299-4C8E-A1BE-C0C5E522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0D107A-4721-43A4-AA8B-7557A8A4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2F29BD-D42B-41DD-8CB4-1EC6E76F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069658-7367-4882-BA29-730EE7CC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9452-D5BC-47AE-8C33-BFA0BBA6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5EC61-32CC-4220-8127-90B1BC94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E30ACB-FC24-4B04-8C1A-3FB117E3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33E71F-3C1A-4615-9542-8AD51E11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13D7E6-41C8-48D7-8E90-75EF9220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E2D48F-EF74-45C2-97F5-BEE1B5CB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99987-7B19-4DA4-A954-B0768CA5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46D9D0-D4BF-4F62-AA4C-1832FD99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7ACD-DAA5-4775-A5FA-9E617A6F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ACDD-0988-4F40-9C73-51D0D571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215A-08B2-4CD9-8B02-D6FEFDFA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0AEA-93B3-4F96-A8B6-8E93EF9A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A793-0D45-4FC9-9EBC-85270752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ECBD-E23A-4E21-B611-0AC034C0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6AC8-2130-4CDD-B012-2076F87B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D592-8B13-4E82-B796-6448B592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B7A2-DE9C-43B6-872D-F2BCC8D3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48A1-88A0-4441-86D8-6F079420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F128C-7D8A-4E7C-AF25-40A3B4E6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E6013-1C38-417E-BFC6-37AB0F14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6E7CF-D1DF-4B6F-9824-8A453EAB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33604-0504-4A13-B260-A9DB6D20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798B4-93DB-4903-AD9A-7FE66FC8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FE9B-523E-48BE-93CB-32CCEF6A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F4AE8-9DBF-4AC8-A432-03436057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49F3E-36FF-4396-A7BE-B55136AB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07B26-8C20-4847-93AA-2CA1A80C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7EA33-1538-4C90-BB87-1B111DDA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024E8-4ECB-4BD7-B833-92C92240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93A04-871A-41F5-97C4-D6ED5178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AA013-9864-4424-AB12-6F08CAF4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7C51E-FB21-48DE-927C-09CFBDDC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F7612-4308-43DA-BFCC-4745016A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5B7D6-9058-490A-92F4-7E130314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D5E5-92DD-4916-9C6D-EB42F5A8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892D6-1EFB-4B04-B459-61396D9A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8FFE3-7BCC-44C6-A57C-DB20E103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4922B-0514-4FFC-BACE-E7989135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0395F-AB1F-4672-982E-26EF753B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2E4F5-2A68-4E2E-92CA-D22511D7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8B159-8172-4C80-AA5C-42947F33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7CFE7-BCF4-448A-8BD2-41D14B06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8D85C-2D92-46CB-8703-DA261FA4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4D304-AE1D-42C5-B74F-C943A629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8E3D4-68B2-4193-B595-BAD25F7A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BD29-EB49-4607-A209-463968D7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7CC0B-5FD3-40F8-A94E-F70CEA7C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A662C-37BC-409A-9D84-A5912CB3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B019A-EB85-49E7-B774-0CCE152F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3E4B8-7ECD-44ED-B0D6-86DE3731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51668-B36E-41EF-85D6-F3F1732D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DE8CB-07FC-405B-A418-00D6F5DA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50D68-9883-4E09-9738-3C371C3C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74D3E-6916-44A6-88EE-E241069F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643F7-FACC-4799-B4FB-F5ECB2C4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54EA6-53FC-4484-91FF-87A9A584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02C2-701C-40AC-963F-BF07CC71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A7656-A106-4820-84F2-DEC988D1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CE331-7E8D-48DA-B3EC-0721F73C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DFC2F-330C-47F2-B98D-ADF2027A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66ADB-39FC-431C-8C2E-EB34C982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CBA51-D3CE-47DA-A30F-F7BDDCC9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C3655-DE14-4ABD-BE4C-F7224B3E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E3CA4-8AE1-4EE6-938B-04FDFE90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C543A-A8FF-43A8-9855-A0926D94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14B57-D9C6-453C-88ED-375AD6B9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1CA19-FB03-4E67-84F8-32BF2064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EEB1-CEA4-41A8-B5BF-B23681C8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3ED76-DD0D-4D18-98D4-ACB11E1A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AB3DA-F86F-4849-AFF5-7EC5D8A7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EE09F-E2F6-4D30-AF03-7C561000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02038-3699-4802-985A-AAE18C05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D8954-B9CC-4500-9181-CF4AB504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54249-AA71-484B-8C5C-B9CCE53D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F4606-47EF-46E4-95D0-F327D9CB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78BE2-0C63-41CC-AD9E-18D79913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8CD92-68AF-448A-A03C-A060CCC6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D97B6-75DD-43A4-A40A-523FA009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E610-C9A5-4BB5-AF82-6A519C45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193EA-CD9F-4C28-9741-50F31411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51C03-59D2-4C6C-8697-B5AB7767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2A27D-1BD3-47C1-8F6E-07BC4D8B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E3035-5B50-437A-9854-E9139E9B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F12E0-9278-49AB-9D2D-674B24A5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A6B3D-83FE-4635-93C4-F966F6A5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74E01-14DC-40E7-95C5-A1D73413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0A43E-5816-4E91-B707-65B603BB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697BE-315B-4B04-A59B-16DC45C1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991D4-7159-4EA5-B750-BB3EB624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A1E0-74C4-4204-A60F-330F26CB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C5B69-8DBC-4BAB-A564-15412182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FA3FF-B87A-4166-93CC-0DDBAC4C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AAB46-07DD-4935-8B00-62CFD0C3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D18A7-D3AD-4E12-9B01-4DB1F8ED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C185F-7589-4F88-9914-3AD5A2B1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2F9DE-8099-41D6-B7BD-9413130E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3B915-E75A-4144-9D07-5EE32C31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0F3C5-EC09-4E3E-9B87-D929E6EE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5BA34-6B37-4868-A2F8-9642ABB0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1FC1A-DDED-4693-852B-55D7C477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7E28-F374-47CB-8C0D-AE5ABF3443EB}" type="slidenum">
              <a:rPr b="0" lang="he-I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0141-B5AC-4BC1-A285-6AB014944FE9}" type="slidenum">
              <a:rPr b="0" lang="he-I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FD41-BB93-4693-87F1-A254FC6D2E41}" type="slidenum">
              <a:rPr b="0" lang="he-I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E545-57D1-4F92-9248-154D083F16AB}" type="slidenum">
              <a:rPr b="0" lang="he-I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98E7-FE45-4472-9504-556932E00EF8}" type="slidenum">
              <a:rPr b="0" lang="he-I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BC98-C0FF-4424-8948-B8F20C08CAF4}" type="slidenum">
              <a:rPr b="0" lang="he-I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B19A-21C8-4C95-ACD4-3EA69B49585D}" type="slidenum">
              <a:rPr b="0" lang="he-I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8597-146F-4E68-95AE-7ACAD443BC6A}" type="slidenum">
              <a:rPr b="0" lang="he-I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6C09-A4DF-4BE1-9F71-08E27F999E32}" type="slidenum">
              <a:rPr b="0" lang="he-I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D00D-2689-4239-A6E6-4925CA7BE22D}" type="slidenum">
              <a:rPr b="0" lang="he-I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12D4-0993-400F-8191-586670207C26}" type="slidenum">
              <a:rPr b="0" lang="he-I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32CB-3E72-423D-8127-6D9E517C8E06}" type="slidenum">
              <a:rPr b="0" lang="he-I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A15F-3D3A-4FCB-80E7-34C85F3D4E1C}" type="slidenum">
              <a:rPr b="0" lang="he-I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720" y="4266720"/>
            <a:ext cx="723888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ta released by the United States Environmental Protection Agency shows that somewhere between 500 billion and a trillion plastic bags are consumed worldwide each year.</a:t>
            </a:r>
            <a:br>
              <a:rPr sz="2400"/>
            </a:b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onal Geographic News September 2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457200" y="0"/>
            <a:ext cx="8305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3399"/>
                </a:solidFill>
                <a:latin typeface="Arial"/>
                <a:cs typeface="Arial"/>
              </a:rPr>
              <a:t>שקיות פלסטי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3399"/>
                </a:solidFill>
                <a:latin typeface="Arial"/>
                <a:ea typeface="Arial"/>
              </a:rPr>
              <a:t>(</a:t>
            </a:r>
            <a:r>
              <a:rPr b="1" lang="he-IL" sz="3200" spc="-1" strike="noStrike">
                <a:solidFill>
                  <a:srgbClr val="ff3399"/>
                </a:solidFill>
                <a:latin typeface="Arial"/>
                <a:cs typeface="Arial"/>
              </a:rPr>
              <a:t>בארץ מכנים אותן בטעות שקיות "ניילון</a:t>
            </a:r>
            <a:r>
              <a:rPr b="1" lang="he-IL" sz="3200" spc="-1" strike="noStrike">
                <a:solidFill>
                  <a:srgbClr val="ff3399"/>
                </a:solidFill>
                <a:latin typeface="Arial"/>
                <a:ea typeface="Arial"/>
              </a:rPr>
              <a:t>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3399"/>
                </a:solidFill>
                <a:latin typeface="Arial"/>
                <a:cs typeface="Arial"/>
              </a:rPr>
              <a:t>מנתוני הסוכנות להגנת הסביבה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3399"/>
                </a:solidFill>
                <a:latin typeface="Arial"/>
                <a:cs typeface="Arial"/>
              </a:rPr>
              <a:t>בין </a:t>
            </a:r>
            <a:r>
              <a:rPr b="1" lang="he-IL" sz="2800" spc="-1" strike="noStrike">
                <a:solidFill>
                  <a:srgbClr val="ff3399"/>
                </a:solidFill>
                <a:latin typeface="Arial"/>
                <a:ea typeface="Arial"/>
              </a:rPr>
              <a:t>500</a:t>
            </a:r>
            <a:r>
              <a:rPr b="1" lang="he-IL" sz="2800" spc="-1" strike="noStrike">
                <a:solidFill>
                  <a:srgbClr val="ff3399"/>
                </a:solidFill>
                <a:latin typeface="Arial"/>
                <a:ea typeface="Arial"/>
              </a:rPr>
              <a:t> מיליארד לבין ביליון (מיליון מיליוני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3399"/>
                </a:solidFill>
                <a:latin typeface="Arial"/>
                <a:ea typeface="Arial"/>
              </a:rPr>
              <a:t>500,000,000-1000,000,0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3399"/>
                </a:solidFill>
                <a:latin typeface="Arial"/>
                <a:cs typeface="Arial"/>
              </a:rPr>
              <a:t>שקיות פלסטי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3399"/>
                </a:solidFill>
                <a:latin typeface="Arial"/>
                <a:cs typeface="Arial"/>
              </a:rPr>
              <a:t>נצרכות בכל שנה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stic bags have been found floating north of the Arctic Circle near Spitzbergen, and as far south as the Falkland Is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5" descr="20050223_daily4_b"/>
          <p:cNvPicPr/>
          <p:nvPr/>
        </p:nvPicPr>
        <p:blipFill>
          <a:blip r:embed="rId1"/>
          <a:stretch/>
        </p:blipFill>
        <p:spPr>
          <a:xfrm>
            <a:off x="609480" y="2971800"/>
            <a:ext cx="5029200" cy="330660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8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British Antarctic Surv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457200" y="1143000"/>
            <a:ext cx="83818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3399"/>
                </a:solidFill>
                <a:latin typeface="Arial"/>
                <a:cs typeface="Arial"/>
              </a:rPr>
              <a:t>שקיות פלסטיק נמצאו צפות אפילו</a:t>
            </a:r>
            <a:r>
              <a:rPr b="1" lang="he-I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3399"/>
                </a:solidFill>
                <a:latin typeface="Arial"/>
                <a:cs typeface="Arial"/>
              </a:rPr>
              <a:t>מצפון לחוג הארקט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3399"/>
                </a:solidFill>
                <a:latin typeface="Arial"/>
                <a:cs typeface="Arial"/>
              </a:rPr>
              <a:t>ליד שפיצברג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3399"/>
                </a:solidFill>
                <a:latin typeface="Arial"/>
                <a:cs typeface="Arial"/>
              </a:rPr>
              <a:t>והרחק בדרו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3399"/>
                </a:solidFill>
                <a:latin typeface="Arial"/>
                <a:cs typeface="Arial"/>
              </a:rPr>
              <a:t>ליד איי פוקלנ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3" descr="pollution.jpg"/>
          <p:cNvPicPr/>
          <p:nvPr/>
        </p:nvPicPr>
        <p:blipFill>
          <a:blip r:embed="rId1"/>
          <a:stretch/>
        </p:blipFill>
        <p:spPr>
          <a:xfrm>
            <a:off x="685800" y="2133720"/>
            <a:ext cx="5562720" cy="417168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4"/>
          <p:cNvSpPr/>
          <p:nvPr/>
        </p:nvSpPr>
        <p:spPr>
          <a:xfrm>
            <a:off x="457200" y="1522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stic bags account for over 10 percent of the debris washed up on the U.S. coast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National Marine Debris Monitoring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380880" y="9907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3399"/>
                </a:solidFill>
                <a:latin typeface="Arial"/>
                <a:cs typeface="Arial"/>
              </a:rPr>
              <a:t>שקיות פלסטיק מהוות יותר מ-</a:t>
            </a:r>
            <a:r>
              <a:rPr b="1" lang="he-IL" sz="3600" spc="-1" strike="noStrike">
                <a:solidFill>
                  <a:srgbClr val="ff3399"/>
                </a:solidFill>
                <a:latin typeface="Arial"/>
                <a:ea typeface="Arial"/>
              </a:rPr>
              <a:t>10%</a:t>
            </a:r>
            <a:r>
              <a:rPr b="1" lang="he-IL" sz="3600" spc="-1" strike="noStrike">
                <a:solidFill>
                  <a:srgbClr val="ff3399"/>
                </a:solidFill>
                <a:latin typeface="Arial"/>
                <a:ea typeface="Arial"/>
              </a:rPr>
              <a:t> מכלל הפסולת הנשטפת לחופי ארה"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6"/>
          <p:cNvSpPr/>
          <p:nvPr/>
        </p:nvSpPr>
        <p:spPr>
          <a:xfrm>
            <a:off x="457200" y="152280"/>
            <a:ext cx="8305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stic bags photodegrade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ver time they break down into smaller, more toxic petro-poly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tecnhology November 16, 200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8" descr="5"/>
          <p:cNvPicPr/>
          <p:nvPr/>
        </p:nvPicPr>
        <p:blipFill>
          <a:blip r:embed="rId1"/>
          <a:stretch/>
        </p:blipFill>
        <p:spPr>
          <a:xfrm>
            <a:off x="609480" y="2362320"/>
            <a:ext cx="4114800" cy="406224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9"/>
          <p:cNvSpPr/>
          <p:nvPr/>
        </p:nvSpPr>
        <p:spPr>
          <a:xfrm>
            <a:off x="457200" y="914400"/>
            <a:ext cx="83059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3399"/>
                </a:solidFill>
                <a:latin typeface="Arial"/>
                <a:cs typeface="Arial"/>
              </a:rPr>
              <a:t>שקיות פלסטיק מתפרקות באור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3399"/>
                </a:solidFill>
                <a:latin typeface="Arial"/>
                <a:cs typeface="Arial"/>
              </a:rPr>
              <a:t>במשך הזמן הן מתפרקו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3399"/>
                </a:solidFill>
                <a:latin typeface="Arial"/>
                <a:cs typeface="Arial"/>
              </a:rPr>
              <a:t>לפטרו-פולימרי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3399"/>
                </a:solidFill>
                <a:latin typeface="Arial"/>
                <a:cs typeface="Arial"/>
              </a:rPr>
              <a:t>קטני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3399"/>
                </a:solidFill>
                <a:latin typeface="Arial"/>
                <a:cs typeface="Arial"/>
              </a:rPr>
              <a:t>אך רעילים ביותר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3"/>
          <p:cNvSpPr/>
          <p:nvPr/>
        </p:nvSpPr>
        <p:spPr>
          <a:xfrm>
            <a:off x="4572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ich eventually contaminate soils and water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4" descr="8"/>
          <p:cNvPicPr/>
          <p:nvPr/>
        </p:nvPicPr>
        <p:blipFill>
          <a:blip r:embed="rId1"/>
          <a:stretch/>
        </p:blipFill>
        <p:spPr>
          <a:xfrm>
            <a:off x="1447920" y="1676520"/>
            <a:ext cx="6553080" cy="446544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5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tecnhology November 16, 200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380880" y="1066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3399"/>
                </a:solidFill>
                <a:latin typeface="Arial"/>
                <a:cs typeface="Arial"/>
              </a:rPr>
              <a:t>וכך מזהמים את מאגרי מים ואת הקרקעו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10"/>
          <p:cNvPicPr/>
          <p:nvPr/>
        </p:nvPicPr>
        <p:blipFill>
          <a:blip r:embed="rId1"/>
          <a:stretch/>
        </p:blipFill>
        <p:spPr>
          <a:xfrm>
            <a:off x="609480" y="1600200"/>
            <a:ext cx="6324840" cy="474984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3"/>
          <p:cNvSpPr/>
          <p:nvPr/>
        </p:nvSpPr>
        <p:spPr>
          <a:xfrm>
            <a:off x="457200" y="1522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 a consequence microscopic particles can enter the food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tecnhology November 16, 200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1447920" y="762120"/>
            <a:ext cx="739116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3399"/>
                </a:solidFill>
                <a:latin typeface="Arial"/>
                <a:cs typeface="Arial"/>
              </a:rPr>
              <a:t>כך חודרים  חלקיקים מיקרוסקופיים לשרשר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3399"/>
                </a:solidFill>
                <a:latin typeface="Arial"/>
                <a:cs typeface="Arial"/>
              </a:rPr>
              <a:t>המזון</a:t>
            </a:r>
            <a:r>
              <a:rPr b="0" lang="he-IL" sz="3200" spc="-1" strike="noStrike">
                <a:solidFill>
                  <a:srgbClr val="ff3399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4" descr="1287992631_4e265ff4a2"/>
          <p:cNvPicPr/>
          <p:nvPr/>
        </p:nvPicPr>
        <p:blipFill>
          <a:blip r:embed="rId1"/>
          <a:stretch/>
        </p:blipFill>
        <p:spPr>
          <a:xfrm>
            <a:off x="533520" y="838080"/>
            <a:ext cx="8153280" cy="542772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5"/>
          <p:cNvSpPr/>
          <p:nvPr/>
        </p:nvSpPr>
        <p:spPr>
          <a:xfrm>
            <a:off x="22860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effect on wildlife can be catastroph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6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orld Wildlife Fund Report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533520" y="16002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3399"/>
                </a:solidFill>
                <a:latin typeface="Arial"/>
                <a:cs typeface="Arial"/>
              </a:rPr>
              <a:t>ההשפעה על חיי-בר עלולה לגרום לאסון כב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14"/>
          <p:cNvPicPr/>
          <p:nvPr/>
        </p:nvPicPr>
        <p:blipFill>
          <a:blip r:embed="rId1"/>
          <a:stretch/>
        </p:blipFill>
        <p:spPr>
          <a:xfrm>
            <a:off x="685800" y="1523880"/>
            <a:ext cx="7848720" cy="47116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5"/>
          <p:cNvSpPr/>
          <p:nvPr/>
        </p:nvSpPr>
        <p:spPr>
          <a:xfrm>
            <a:off x="457200" y="1522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rds become terminally entangled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orld Wildlife Fund Report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7"/>
          <p:cNvSpPr/>
          <p:nvPr/>
        </p:nvSpPr>
        <p:spPr>
          <a:xfrm>
            <a:off x="457200" y="6858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3399"/>
                </a:solidFill>
                <a:latin typeface="Arial"/>
                <a:cs typeface="Arial"/>
              </a:rPr>
              <a:t>ציפורים מסתבכות בשקיות ומתו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15"/>
          <p:cNvPicPr/>
          <p:nvPr/>
        </p:nvPicPr>
        <p:blipFill>
          <a:blip r:embed="rId1"/>
          <a:stretch/>
        </p:blipFill>
        <p:spPr>
          <a:xfrm>
            <a:off x="4724280" y="609480"/>
            <a:ext cx="4100760" cy="56390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6" descr="p11b"/>
          <p:cNvPicPr/>
          <p:nvPr/>
        </p:nvPicPr>
        <p:blipFill>
          <a:blip r:embed="rId2"/>
          <a:stretch/>
        </p:blipFill>
        <p:spPr>
          <a:xfrm>
            <a:off x="457200" y="609480"/>
            <a:ext cx="3879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5"/>
          <p:cNvSpPr/>
          <p:nvPr/>
        </p:nvSpPr>
        <p:spPr>
          <a:xfrm>
            <a:off x="457200" y="152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arly 200 different species of sea life including whales, dolphins, seals and turtles die due to plastic b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orld Wildlife Fund Report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8" descr="dolphinplasticmouth-1"/>
          <p:cNvPicPr/>
          <p:nvPr/>
        </p:nvPicPr>
        <p:blipFill>
          <a:blip r:embed="rId1"/>
          <a:stretch/>
        </p:blipFill>
        <p:spPr>
          <a:xfrm>
            <a:off x="4876920" y="2666880"/>
            <a:ext cx="4025880" cy="37972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1" descr="The minke whale carcase at Scalloway marina on Monday morning. Photo: Jim Nicolson"/>
          <p:cNvPicPr/>
          <p:nvPr/>
        </p:nvPicPr>
        <p:blipFill>
          <a:blip r:embed="rId2"/>
          <a:stretch/>
        </p:blipFill>
        <p:spPr>
          <a:xfrm>
            <a:off x="457200" y="2971800"/>
            <a:ext cx="4038480" cy="268776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304920" y="83808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3399"/>
                </a:solidFill>
                <a:latin typeface="Arial"/>
                <a:cs typeface="Arial"/>
              </a:rPr>
              <a:t>כ- </a:t>
            </a:r>
            <a:r>
              <a:rPr b="1" lang="he-IL" sz="3200" spc="-1" strike="noStrike">
                <a:solidFill>
                  <a:srgbClr val="ff3399"/>
                </a:solidFill>
                <a:latin typeface="Arial"/>
                <a:ea typeface="Arial"/>
              </a:rPr>
              <a:t>200</a:t>
            </a:r>
            <a:r>
              <a:rPr b="1" lang="he-IL" sz="3200" spc="-1" strike="noStrike">
                <a:solidFill>
                  <a:srgbClr val="ff3399"/>
                </a:solidFill>
                <a:latin typeface="Arial"/>
                <a:ea typeface="Arial"/>
              </a:rPr>
              <a:t> </a:t>
            </a:r>
            <a:r>
              <a:rPr b="1" lang="he-IL" sz="3600" spc="-1" strike="noStrike">
                <a:solidFill>
                  <a:srgbClr val="ff3399"/>
                </a:solidFill>
                <a:latin typeface="Arial"/>
                <a:cs typeface="Arial"/>
              </a:rPr>
              <a:t>סוגים שנים של חיות-ים כולל לוויתנים, דולפינים, כלבי-ים וצבים מתים בגלל שקיות הפלסטי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5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6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6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6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6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2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2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21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3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4"/>
          <p:cNvPicPr/>
          <p:nvPr/>
        </p:nvPicPr>
        <p:blipFill>
          <a:blip r:embed="rId1"/>
          <a:stretch/>
        </p:blipFill>
        <p:spPr>
          <a:xfrm>
            <a:off x="304920" y="1523880"/>
            <a:ext cx="8610480" cy="483732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3"/>
          <p:cNvSpPr/>
          <p:nvPr/>
        </p:nvSpPr>
        <p:spPr>
          <a:xfrm>
            <a:off x="457200" y="152280"/>
            <a:ext cx="8305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y die after ingesting plastic bags which they mistake for 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orld Wildlife Fund Report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0" y="9144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3399"/>
                </a:solidFill>
                <a:latin typeface="Arial"/>
                <a:cs typeface="Arial"/>
              </a:rPr>
              <a:t>הם מתים לאחר שאכלו שקיות פלסטיק אותן חשבו בטעות למזון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than 1% of bags are recycled.  It cost more to recycle a bag than to produce a new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3809880" y="6095880"/>
            <a:ext cx="5105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Christian Science Monitor News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10" descr="MCj04315570000[1]"/>
          <p:cNvPicPr/>
          <p:nvPr/>
        </p:nvPicPr>
        <p:blipFill>
          <a:blip r:embed="rId1"/>
          <a:stretch/>
        </p:blipFill>
        <p:spPr>
          <a:xfrm>
            <a:off x="1447920" y="25146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12"/>
          <p:cNvSpPr/>
          <p:nvPr/>
        </p:nvSpPr>
        <p:spPr>
          <a:xfrm>
            <a:off x="609480" y="1447920"/>
            <a:ext cx="76964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3399"/>
                </a:solidFill>
                <a:latin typeface="Arial"/>
                <a:cs typeface="Arial"/>
              </a:rPr>
              <a:t>פחות מ- </a:t>
            </a:r>
            <a:r>
              <a:rPr b="0" lang="he-IL" sz="2800" spc="-1" strike="noStrike">
                <a:solidFill>
                  <a:srgbClr val="ff3399"/>
                </a:solidFill>
                <a:latin typeface="Arial"/>
                <a:ea typeface="Arial"/>
              </a:rPr>
              <a:t>1%</a:t>
            </a:r>
            <a:r>
              <a:rPr b="0" lang="he-IL" sz="2800" spc="-1" strike="noStrike">
                <a:solidFill>
                  <a:srgbClr val="ff3399"/>
                </a:solidFill>
                <a:latin typeface="Arial"/>
                <a:ea typeface="Arial"/>
              </a:rPr>
              <a:t> מכל השקיות ממוחזרות</a:t>
            </a:r>
            <a:r>
              <a:rPr b="0" lang="he-IL" sz="2800" spc="-1" strike="noStrike">
                <a:solidFill>
                  <a:srgbClr val="ff3399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3399"/>
                </a:solidFill>
                <a:latin typeface="Arial"/>
                <a:cs typeface="Arial"/>
              </a:rPr>
              <a:t>מיחזור שקית עולה בהרבה על מחיר ייצורה</a:t>
            </a:r>
            <a:r>
              <a:rPr b="0" lang="he-IL" sz="2800" spc="-1" strike="noStrike">
                <a:solidFill>
                  <a:srgbClr val="ff3399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53352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do w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1219320" y="2819520"/>
            <a:ext cx="693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000" spc="-1" strike="noStrike">
                <a:solidFill>
                  <a:srgbClr val="ff3399"/>
                </a:solidFill>
                <a:latin typeface="Arial"/>
                <a:cs typeface="Arial"/>
              </a:rPr>
              <a:t>אז מה עושים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11"/>
          <p:cNvPicPr/>
          <p:nvPr/>
        </p:nvPicPr>
        <p:blipFill>
          <a:blip r:embed="rId1"/>
          <a:stretch/>
        </p:blipFill>
        <p:spPr>
          <a:xfrm>
            <a:off x="2133720" y="2209680"/>
            <a:ext cx="5181480" cy="449604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we use a cloth bag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 can save 6 bags a week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304920" y="11430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3399"/>
                </a:solidFill>
                <a:latin typeface="Arial"/>
                <a:cs typeface="Arial"/>
              </a:rPr>
              <a:t>אם נשתמש בשקיות בד, נחסוך </a:t>
            </a:r>
            <a:r>
              <a:rPr b="0" lang="he-IL" sz="3600" spc="-1" strike="noStrike">
                <a:solidFill>
                  <a:srgbClr val="ff3399"/>
                </a:solidFill>
                <a:latin typeface="Arial"/>
                <a:ea typeface="Arial"/>
              </a:rPr>
              <a:t>6</a:t>
            </a:r>
            <a:r>
              <a:rPr b="0" lang="he-IL" sz="3600" spc="-1" strike="noStrike">
                <a:solidFill>
                  <a:srgbClr val="ff3399"/>
                </a:solidFill>
                <a:latin typeface="Arial"/>
                <a:ea typeface="Arial"/>
              </a:rPr>
              <a:t> שקיות כל שבו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t's 24 bags a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5" descr="plasticbagwaste"/>
          <p:cNvPicPr/>
          <p:nvPr/>
        </p:nvPicPr>
        <p:blipFill>
          <a:blip r:embed="rId1"/>
          <a:stretch/>
        </p:blipFill>
        <p:spPr>
          <a:xfrm>
            <a:off x="1341360" y="1600200"/>
            <a:ext cx="6553440" cy="491796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7"/>
          <p:cNvSpPr/>
          <p:nvPr/>
        </p:nvSpPr>
        <p:spPr>
          <a:xfrm>
            <a:off x="1295280" y="874800"/>
            <a:ext cx="664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8"/>
          <p:cNvSpPr/>
          <p:nvPr/>
        </p:nvSpPr>
        <p:spPr>
          <a:xfrm>
            <a:off x="533520" y="7621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3399"/>
                </a:solidFill>
                <a:latin typeface="Arial"/>
                <a:cs typeface="Arial"/>
              </a:rPr>
              <a:t>כלומר, נחסוך  </a:t>
            </a:r>
            <a:r>
              <a:rPr b="1" lang="he-IL" sz="3600" spc="-1" strike="noStrike">
                <a:solidFill>
                  <a:srgbClr val="ff3399"/>
                </a:solidFill>
                <a:latin typeface="Arial"/>
                <a:ea typeface="Arial"/>
              </a:rPr>
              <a:t>24</a:t>
            </a:r>
            <a:r>
              <a:rPr b="1" lang="he-IL" sz="3600" spc="-1" strike="noStrike">
                <a:solidFill>
                  <a:srgbClr val="ff3399"/>
                </a:solidFill>
                <a:latin typeface="Arial"/>
                <a:ea typeface="Arial"/>
              </a:rPr>
              <a:t> שקיות בכל חוד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t's 288 bags a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4" descr="12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7"/>
          <p:cNvSpPr/>
          <p:nvPr/>
        </p:nvSpPr>
        <p:spPr>
          <a:xfrm>
            <a:off x="457200" y="8380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3399"/>
                </a:solidFill>
                <a:latin typeface="Arial"/>
                <a:cs typeface="Arial"/>
              </a:rPr>
              <a:t>שהן </a:t>
            </a:r>
            <a:r>
              <a:rPr b="1" lang="he-IL" sz="4000" spc="-1" strike="noStrike">
                <a:solidFill>
                  <a:srgbClr val="ff3399"/>
                </a:solidFill>
                <a:latin typeface="Arial"/>
                <a:ea typeface="Arial"/>
              </a:rPr>
              <a:t>288</a:t>
            </a:r>
            <a:r>
              <a:rPr b="1" lang="he-IL" sz="4000" spc="-1" strike="noStrike">
                <a:solidFill>
                  <a:srgbClr val="ff3399"/>
                </a:solidFill>
                <a:latin typeface="Arial"/>
                <a:ea typeface="Arial"/>
              </a:rPr>
              <a:t> שקיות בכל שנ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at's 22,176 bag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an average lif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0" descr="13"/>
          <p:cNvPicPr/>
          <p:nvPr/>
        </p:nvPicPr>
        <p:blipFill>
          <a:blip r:embed="rId1"/>
          <a:stretch/>
        </p:blipFill>
        <p:spPr>
          <a:xfrm>
            <a:off x="685800" y="1828800"/>
            <a:ext cx="7924680" cy="460224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12"/>
          <p:cNvSpPr/>
          <p:nvPr/>
        </p:nvSpPr>
        <p:spPr>
          <a:xfrm>
            <a:off x="2286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3399"/>
                </a:solidFill>
                <a:latin typeface="Arial"/>
                <a:cs typeface="Arial"/>
              </a:rPr>
              <a:t>שזה </a:t>
            </a:r>
            <a:r>
              <a:rPr b="1" lang="he-IL" sz="3600" spc="-1" strike="noStrike">
                <a:solidFill>
                  <a:srgbClr val="ff3399"/>
                </a:solidFill>
                <a:latin typeface="Arial"/>
                <a:ea typeface="Arial"/>
              </a:rPr>
              <a:t>22,176</a:t>
            </a:r>
            <a:r>
              <a:rPr b="1" lang="he-IL" sz="3600" spc="-1" strike="noStrike">
                <a:solidFill>
                  <a:srgbClr val="ff3399"/>
                </a:solidFill>
                <a:latin typeface="Arial"/>
                <a:ea typeface="Arial"/>
              </a:rPr>
              <a:t> שקיות במהלך זמן חיים ממוצ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4" descr="1171402753"/>
          <p:cNvPicPr/>
          <p:nvPr/>
        </p:nvPicPr>
        <p:blipFill>
          <a:blip r:embed="rId1"/>
          <a:stretch/>
        </p:blipFill>
        <p:spPr>
          <a:xfrm>
            <a:off x="762120" y="2706840"/>
            <a:ext cx="5638680" cy="415116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822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just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 out of 5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people in our country did this we would sav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,330,560,000,000 bags over our lif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228600" y="11430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3399"/>
                </a:solidFill>
                <a:latin typeface="Arial"/>
                <a:cs typeface="Arial"/>
              </a:rPr>
              <a:t>אם רק </a:t>
            </a:r>
            <a:r>
              <a:rPr b="1" lang="he-IL" sz="3200" spc="-1" strike="noStrike">
                <a:solidFill>
                  <a:srgbClr val="ff3399"/>
                </a:solidFill>
                <a:latin typeface="Arial"/>
                <a:ea typeface="Arial"/>
              </a:rPr>
              <a:t>1</a:t>
            </a:r>
            <a:r>
              <a:rPr b="1" lang="he-IL" sz="3200" spc="-1" strike="noStrike">
                <a:solidFill>
                  <a:srgbClr val="ff3399"/>
                </a:solidFill>
                <a:latin typeface="Arial"/>
                <a:ea typeface="Arial"/>
              </a:rPr>
              <a:t> מכל </a:t>
            </a:r>
            <a:r>
              <a:rPr b="1" lang="he-IL" sz="3200" spc="-1" strike="noStrike">
                <a:solidFill>
                  <a:srgbClr val="ff3399"/>
                </a:solidFill>
                <a:latin typeface="Arial"/>
                <a:ea typeface="Arial"/>
              </a:rPr>
              <a:t>5</a:t>
            </a:r>
            <a:r>
              <a:rPr b="1" lang="he-IL" sz="3200" spc="-1" strike="noStrike">
                <a:solidFill>
                  <a:srgbClr val="ff3399"/>
                </a:solidFill>
                <a:latin typeface="Arial"/>
                <a:ea typeface="Arial"/>
              </a:rPr>
              <a:t> אנשים בישראל יעשה זאת, נחסוך 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31,046,400,000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ff3399"/>
                </a:solidFill>
                <a:latin typeface="Arial"/>
                <a:ea typeface="Arial"/>
              </a:rPr>
              <a:t> </a:t>
            </a:r>
            <a:r>
              <a:rPr b="1" lang="he-IL" sz="3200" spc="-1" strike="noStrike">
                <a:solidFill>
                  <a:srgbClr val="ff3399"/>
                </a:solidFill>
                <a:latin typeface="Arial"/>
                <a:cs typeface="Arial"/>
              </a:rPr>
              <a:t>שקיות במהלך חיינו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7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70" fill="hold"/>
                                        <p:tgtEl>
                                          <p:spTgt spid="6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ngladesh has banned plastic bag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MSNBC.com March 8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13" descr="photo_sm_bangladesh"/>
          <p:cNvPicPr/>
          <p:nvPr/>
        </p:nvPicPr>
        <p:blipFill>
          <a:blip r:embed="rId1"/>
          <a:stretch/>
        </p:blipFill>
        <p:spPr>
          <a:xfrm>
            <a:off x="1371600" y="1828800"/>
            <a:ext cx="6477120" cy="429084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14"/>
          <p:cNvSpPr/>
          <p:nvPr/>
        </p:nvSpPr>
        <p:spPr>
          <a:xfrm>
            <a:off x="304920" y="11430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3399"/>
                </a:solidFill>
                <a:latin typeface="Arial"/>
                <a:cs typeface="Arial"/>
              </a:rPr>
              <a:t>בנגלדש אסרה שימוש בשקיות פלסטי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17"/>
          <p:cNvPicPr/>
          <p:nvPr/>
        </p:nvPicPr>
        <p:blipFill>
          <a:blip r:embed="rId1"/>
          <a:stretch/>
        </p:blipFill>
        <p:spPr>
          <a:xfrm>
            <a:off x="2286000" y="16765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ina has banned free plastic b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asia January 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380880" y="990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3399"/>
                </a:solidFill>
                <a:latin typeface="Arial"/>
                <a:cs typeface="Arial"/>
              </a:rPr>
              <a:t>סין אסרה חלוקת שקיות פלסטיק בחינ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19"/>
          <p:cNvPicPr/>
          <p:nvPr/>
        </p:nvPicPr>
        <p:blipFill>
          <a:blip r:embed="rId1"/>
          <a:stretch/>
        </p:blipFill>
        <p:spPr>
          <a:xfrm>
            <a:off x="2438280" y="3124080"/>
            <a:ext cx="4191120" cy="284796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reland took the lead in Europe, taxing plastic bags in 2002 and have now reduced plastic bag consumption by 90%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BBC News August 20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6"/>
          <p:cNvSpPr/>
          <p:nvPr/>
        </p:nvSpPr>
        <p:spPr>
          <a:xfrm>
            <a:off x="457200" y="12952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3399"/>
                </a:solidFill>
                <a:latin typeface="Arial"/>
                <a:cs typeface="Arial"/>
              </a:rPr>
              <a:t>אירלנד הטילה מס על שקיות פלסטיק ובכך מובילה באירופה. הצריכה של שקיות פלסטיק באירלנד פחתה ב-</a:t>
            </a:r>
            <a:r>
              <a:rPr b="0" lang="he-IL" sz="3200" spc="-1" strike="noStrike">
                <a:solidFill>
                  <a:srgbClr val="ff3399"/>
                </a:solidFill>
                <a:latin typeface="Arial"/>
                <a:ea typeface="Arial"/>
              </a:rPr>
              <a:t>90%</a:t>
            </a:r>
            <a:r>
              <a:rPr b="0" lang="he-IL" sz="3200" spc="-1" strike="noStrike">
                <a:solidFill>
                  <a:srgbClr val="ff3399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20"/>
          <p:cNvPicPr/>
          <p:nvPr/>
        </p:nvPicPr>
        <p:blipFill>
          <a:blip r:embed="rId1"/>
          <a:stretch/>
        </p:blipFill>
        <p:spPr>
          <a:xfrm>
            <a:off x="1371600" y="1600200"/>
            <a:ext cx="6400800" cy="425592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2005 Rwanda banned plastic bag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6"/>
          <p:cNvSpPr/>
          <p:nvPr/>
        </p:nvSpPr>
        <p:spPr>
          <a:xfrm>
            <a:off x="6248520" y="6400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ssociated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7"/>
          <p:cNvSpPr/>
          <p:nvPr/>
        </p:nvSpPr>
        <p:spPr>
          <a:xfrm>
            <a:off x="380880" y="9144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3399"/>
                </a:solidFill>
                <a:latin typeface="Arial"/>
                <a:cs typeface="Arial"/>
              </a:rPr>
              <a:t>ב-</a:t>
            </a:r>
            <a:r>
              <a:rPr b="0" lang="he-IL" sz="3200" spc="-1" strike="noStrike">
                <a:solidFill>
                  <a:srgbClr val="ff3399"/>
                </a:solidFill>
                <a:latin typeface="Arial"/>
                <a:ea typeface="Arial"/>
              </a:rPr>
              <a:t>2005</a:t>
            </a:r>
            <a:r>
              <a:rPr b="0" lang="he-IL" sz="3200" spc="-1" strike="noStrike">
                <a:solidFill>
                  <a:srgbClr val="ff3399"/>
                </a:solidFill>
                <a:latin typeface="Arial"/>
                <a:ea typeface="Arial"/>
              </a:rPr>
              <a:t> נאסר ברואנדה שימוש בשקיות פלסטי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2280" y="4267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's harsh economics behind bag recycling: It costs $4,000 to process and recycle 1 ton of plastic bags, which can then be sold on the commodities market for $32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-208800" y="6095880"/>
            <a:ext cx="808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 Jared Blumenfeld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Director of San Francisco's Department of the Environ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685800" y="457200"/>
            <a:ext cx="8153280" cy="21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3399"/>
                </a:solidFill>
                <a:latin typeface="Arial"/>
                <a:cs typeface="Arial"/>
              </a:rPr>
              <a:t>ההיבט הכלכלי של מיחזור השקיות הוא קשוח מאד: עיבוד ומיחזור של טון שקיות פלסטיק עולה </a:t>
            </a:r>
            <a:r>
              <a:rPr b="0" lang="he-IL" sz="3200" spc="-1" strike="noStrike">
                <a:solidFill>
                  <a:srgbClr val="ff3399"/>
                </a:solidFill>
                <a:latin typeface="Arial"/>
                <a:ea typeface="Arial"/>
              </a:rPr>
              <a:t>$4000</a:t>
            </a:r>
            <a:r>
              <a:rPr b="0" lang="he-IL" sz="3200" spc="-1" strike="noStrike">
                <a:solidFill>
                  <a:srgbClr val="ff3399"/>
                </a:solidFill>
                <a:latin typeface="Arial"/>
                <a:ea typeface="Arial"/>
              </a:rPr>
              <a:t> בעוד שמחירו הוא רק </a:t>
            </a:r>
            <a:r>
              <a:rPr b="0" lang="he-IL" sz="3200" spc="-1" strike="noStrike">
                <a:solidFill>
                  <a:srgbClr val="ff3399"/>
                </a:solidFill>
                <a:latin typeface="Arial"/>
                <a:ea typeface="Arial"/>
              </a:rPr>
              <a:t>$32</a:t>
            </a:r>
            <a:r>
              <a:rPr b="0" lang="he-IL" sz="3200" spc="-1" strike="noStrike">
                <a:solidFill>
                  <a:srgbClr val="ff3399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ffff"/>
                </a:solidFill>
                <a:latin typeface="Arial"/>
                <a:cs typeface="Arial"/>
              </a:rPr>
              <a:t>ג'ארד בלומנטל-מנהל מחלקת הסביבה של סן-פרנסיסק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2" descr="21"/>
          <p:cNvPicPr/>
          <p:nvPr/>
        </p:nvPicPr>
        <p:blipFill>
          <a:blip r:embed="rId1"/>
          <a:stretch/>
        </p:blipFill>
        <p:spPr>
          <a:xfrm>
            <a:off x="1143000" y="3124080"/>
            <a:ext cx="3330720" cy="350532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rael, Canada, western India, Botswana, Kenya, Tanzania, South Africa, Taiwan, and Singapore  have also banned or are moving toward banning the plastic ba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PlanetSave.com February 16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57200" y="12952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3399"/>
                </a:solidFill>
                <a:latin typeface="Arial"/>
                <a:cs typeface="Arial"/>
              </a:rPr>
              <a:t>ישראל,</a:t>
            </a:r>
            <a:r>
              <a:rPr b="0" lang="he-IL" sz="3200" spc="-1" strike="noStrike">
                <a:solidFill>
                  <a:srgbClr val="ff3399"/>
                </a:solidFill>
                <a:latin typeface="Arial"/>
                <a:ea typeface="Arial"/>
              </a:rPr>
              <a:t> קנדה, מערב הודו, בוצואנה, קניה, טנזניה, דרום אפריקה, טאיוואן וסינגפור אף הן אסרו או עומדות לאסור שימוש בשקיות פלסטי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22"/>
          <p:cNvPicPr/>
          <p:nvPr/>
        </p:nvPicPr>
        <p:blipFill>
          <a:blip r:embed="rId1"/>
          <a:stretch/>
        </p:blipFill>
        <p:spPr>
          <a:xfrm>
            <a:off x="3048120" y="2666880"/>
            <a:ext cx="3084480" cy="36576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 March 27th 2007, San Francisco becomes first U.S. city to ban plastic bags 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6"/>
          <p:cNvSpPr/>
          <p:nvPr/>
        </p:nvSpPr>
        <p:spPr>
          <a:xfrm>
            <a:off x="5562720" y="6400800"/>
            <a:ext cx="358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NPR.org (National Public Ra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0" y="13716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3399"/>
                </a:solidFill>
                <a:latin typeface="Arial"/>
                <a:cs typeface="Arial"/>
              </a:rPr>
              <a:t>ב-</a:t>
            </a:r>
            <a:r>
              <a:rPr b="0" lang="he-IL" sz="3200" spc="-1" strike="noStrike">
                <a:solidFill>
                  <a:srgbClr val="ff3399"/>
                </a:solidFill>
                <a:latin typeface="Arial"/>
                <a:ea typeface="Arial"/>
              </a:rPr>
              <a:t>27.3.2007</a:t>
            </a:r>
            <a:r>
              <a:rPr b="0" lang="he-IL" sz="3200" spc="-1" strike="noStrike">
                <a:solidFill>
                  <a:srgbClr val="ff3399"/>
                </a:solidFill>
                <a:latin typeface="Arial"/>
                <a:ea typeface="Arial"/>
              </a:rPr>
              <a:t> הפכה סן-פרנסיסקו לעיר האמריקאית הראשונה שאסרה שקיות פלסטי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akland and Boston are considering a ba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5" descr="modgrocerytote"/>
          <p:cNvPicPr/>
          <p:nvPr/>
        </p:nvPicPr>
        <p:blipFill>
          <a:blip r:embed="rId1"/>
          <a:stretch/>
        </p:blipFill>
        <p:spPr>
          <a:xfrm>
            <a:off x="2209680" y="160020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7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The Boston Globe May 20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8"/>
          <p:cNvSpPr/>
          <p:nvPr/>
        </p:nvSpPr>
        <p:spPr>
          <a:xfrm>
            <a:off x="304920" y="1066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3399"/>
                </a:solidFill>
                <a:latin typeface="Arial"/>
                <a:cs typeface="Arial"/>
              </a:rPr>
              <a:t>אוקלנד ובוסטון שוקלות אף הן איסו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3" descr="23"/>
          <p:cNvPicPr/>
          <p:nvPr/>
        </p:nvPicPr>
        <p:blipFill>
          <a:blip r:embed="rId1"/>
          <a:stretch/>
        </p:blipFill>
        <p:spPr>
          <a:xfrm>
            <a:off x="1676520" y="2209680"/>
            <a:ext cx="5867280" cy="419112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stic shopping bags are made from polyethylene: a thermoplastic made from oil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4419720" y="65530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tecnhology November 1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6"/>
          <p:cNvSpPr/>
          <p:nvPr/>
        </p:nvSpPr>
        <p:spPr>
          <a:xfrm>
            <a:off x="457200" y="11430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3399"/>
                </a:solidFill>
                <a:latin typeface="Arial"/>
                <a:cs typeface="Arial"/>
              </a:rPr>
              <a:t>שקיות קניות מפלסטיק עשויות מפוליאתילן: חומר תרמופלסטי המיוצר מנפ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3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3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4" descr="24"/>
          <p:cNvPicPr/>
          <p:nvPr/>
        </p:nvPicPr>
        <p:blipFill>
          <a:blip r:embed="rId1"/>
          <a:stretch/>
        </p:blipFill>
        <p:spPr>
          <a:xfrm>
            <a:off x="5715000" y="2895480"/>
            <a:ext cx="3086280" cy="320040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ducing plastic bags will decrease foreign oil dependenc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6" descr="26"/>
          <p:cNvPicPr/>
          <p:nvPr/>
        </p:nvPicPr>
        <p:blipFill>
          <a:blip r:embed="rId2"/>
          <a:stretch/>
        </p:blipFill>
        <p:spPr>
          <a:xfrm>
            <a:off x="380880" y="2895480"/>
            <a:ext cx="4876920" cy="324828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8"/>
          <p:cNvSpPr/>
          <p:nvPr/>
        </p:nvSpPr>
        <p:spPr>
          <a:xfrm>
            <a:off x="228600" y="15238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3399"/>
                </a:solidFill>
                <a:latin typeface="Arial"/>
                <a:cs typeface="Arial"/>
              </a:rPr>
              <a:t>הפחתה בכמויות שקיות הפלסטיק תקטין את התלות בנפט מיובא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9" descr="oil-on-water"/>
          <p:cNvPicPr/>
          <p:nvPr/>
        </p:nvPicPr>
        <p:blipFill>
          <a:blip r:embed="rId1"/>
          <a:stretch/>
        </p:blipFill>
        <p:spPr>
          <a:xfrm>
            <a:off x="1676520" y="930240"/>
            <a:ext cx="5943600" cy="592776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na will save 37 million barrels of oil each year due to their ban of free plastic bag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asia January 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3"/>
          <p:cNvSpPr/>
          <p:nvPr/>
        </p:nvSpPr>
        <p:spPr>
          <a:xfrm>
            <a:off x="0" y="14479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3399"/>
                </a:solidFill>
                <a:latin typeface="Arial"/>
                <a:cs typeface="Arial"/>
              </a:rPr>
              <a:t>סין תחסוך </a:t>
            </a:r>
            <a:r>
              <a:rPr b="0" lang="he-IL" sz="3200" spc="-1" strike="noStrike">
                <a:solidFill>
                  <a:srgbClr val="ff3399"/>
                </a:solidFill>
                <a:latin typeface="Arial"/>
                <a:ea typeface="Arial"/>
              </a:rPr>
              <a:t>37</a:t>
            </a:r>
            <a:r>
              <a:rPr b="0" lang="he-IL" sz="3200" spc="-1" strike="noStrike">
                <a:solidFill>
                  <a:srgbClr val="ff3399"/>
                </a:solidFill>
                <a:latin typeface="Arial"/>
                <a:ea typeface="Arial"/>
              </a:rPr>
              <a:t> מיליון חביות נפט בכל שנה הודות לאיסור על חלוקת חינם של שקיות פלסטי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0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16"/>
          <p:cNvPicPr/>
          <p:nvPr/>
        </p:nvPicPr>
        <p:blipFill>
          <a:blip r:embed="rId1"/>
          <a:stretch/>
        </p:blipFill>
        <p:spPr>
          <a:xfrm>
            <a:off x="1371600" y="990720"/>
            <a:ext cx="3868560" cy="403848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is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ossible</a:t>
            </a:r>
            <a:r>
              <a:rPr b="0" lang="he-IL" sz="4000" spc="-1" strike="noStrike">
                <a:solidFill>
                  <a:srgbClr val="ffffff"/>
                </a:solidFill>
                <a:latin typeface="Tahoma"/>
                <a:ea typeface="Arial"/>
              </a:rPr>
              <a:t>         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0" lang="he-IL" sz="4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he-IL" sz="4800" spc="-1" strike="noStrike">
                <a:solidFill>
                  <a:srgbClr val="ff3399"/>
                </a:solidFill>
                <a:latin typeface="Arial"/>
                <a:cs typeface="Arial"/>
              </a:rPr>
              <a:t>זה אפשר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4"/>
          <p:cNvSpPr/>
          <p:nvPr/>
        </p:nvSpPr>
        <p:spPr>
          <a:xfrm>
            <a:off x="6019920" y="838080"/>
            <a:ext cx="3124080" cy="3733920"/>
          </a:xfrm>
          <a:prstGeom prst="wedgeRectCallout">
            <a:avLst>
              <a:gd name="adj1" fmla="val -113972"/>
              <a:gd name="adj2" fmla="val 2601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9999"/>
                </a:solidFill>
                <a:latin typeface="Arial"/>
                <a:cs typeface="Arial"/>
              </a:rPr>
              <a:t>עשה משהו דרסטי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000000"/>
                </a:solidFill>
                <a:latin typeface="Arial"/>
                <a:cs typeface="Arial"/>
              </a:rPr>
              <a:t>אמור </a:t>
            </a:r>
            <a:r>
              <a:rPr b="1" lang="he-IL" sz="48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לא!!!</a:t>
            </a:r>
            <a:r>
              <a:rPr b="1" lang="he-IL" sz="4800" spc="-1" strike="noStrike">
                <a:solidFill>
                  <a:srgbClr val="000000"/>
                </a:solidFill>
                <a:latin typeface="Arial"/>
                <a:ea typeface="Arial"/>
              </a:rPr>
              <a:t> לשקיות פלסטי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-380880" y="4648320"/>
            <a:ext cx="95248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66ff"/>
                </a:solidFill>
                <a:latin typeface="Arial"/>
                <a:cs typeface="Arial"/>
              </a:rPr>
              <a:t>קישורים ומידע נוסף</a:t>
            </a:r>
            <a:r>
              <a:rPr b="1" lang="he-IL" sz="2800" spc="-1" strike="noStrike">
                <a:solidFill>
                  <a:srgbClr val="0066ff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http://www.adamteva.org.il/?CategoryID=323&amp;ArticleID=403</a:t>
            </a:r>
            <a:r>
              <a:rPr b="1" lang="he-IL" sz="24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http://www.adamteva.org.il/?CategoryID=323&amp;ArticleID=404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66ff"/>
                </a:solidFill>
                <a:latin typeface="Arial"/>
                <a:cs typeface="Arial"/>
              </a:rPr>
              <a:t>פתרונות ירוקים תוצרת כחול-לבן: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greenisrael.co.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0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3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5"/>
          <p:cNvSpPr/>
          <p:nvPr/>
        </p:nvSpPr>
        <p:spPr>
          <a:xfrm>
            <a:off x="685800" y="527040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3399"/>
                </a:solidFill>
                <a:latin typeface="Arial"/>
                <a:cs typeface="Arial"/>
              </a:rPr>
              <a:t>תרגום ועריכה: רינה ברנסבור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ff3399"/>
                </a:solidFill>
                <a:latin typeface="Arial"/>
                <a:cs typeface="Arial"/>
              </a:rPr>
              <a:t>תודה לדר' יהושע סיוון ולדר' דליה עובדיהו על ההערות ועל התיקוני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6" descr="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230976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7"/>
          <p:cNvSpPr/>
          <p:nvPr/>
        </p:nvSpPr>
        <p:spPr>
          <a:xfrm>
            <a:off x="0" y="380880"/>
            <a:ext cx="91440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0066ff"/>
                </a:solidFill>
                <a:latin typeface="Arial"/>
                <a:cs typeface="Arial"/>
              </a:rPr>
              <a:t>קישורים ומידע נוסף</a:t>
            </a:r>
            <a:r>
              <a:rPr b="1" lang="he-IL" sz="2800" spc="-1" strike="noStrike">
                <a:solidFill>
                  <a:srgbClr val="0066ff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http://www.adamteva.org.il/?CategoryID=323&amp;ArticleID=403</a:t>
            </a:r>
            <a:r>
              <a:rPr b="1" lang="he-IL" sz="24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http://www.adamteva.org.il/?CategoryID=323&amp;ArticleID=404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66ff"/>
                </a:solidFill>
                <a:latin typeface="Arial"/>
                <a:cs typeface="Arial"/>
              </a:rPr>
              <a:t>פתרונות ירוקים תוצרת כחול-לבן: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greenisrael.co.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ff3399"/>
                </a:solidFill>
                <a:latin typeface="Arial"/>
                <a:cs typeface="Arial"/>
              </a:rPr>
              <a:t>השקית הירוקה</a:t>
            </a:r>
            <a:r>
              <a:rPr b="0" lang="he-IL" sz="2400" spc="-1" strike="noStrike">
                <a:solidFill>
                  <a:srgbClr val="ff3399"/>
                </a:solidFill>
                <a:latin typeface="Arial"/>
                <a:ea typeface="Arial"/>
              </a:rPr>
              <a:t> – מצג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3399"/>
                </a:solidFill>
                <a:latin typeface="Arial"/>
                <a:cs typeface="Arial"/>
              </a:rPr>
              <a:t>עמותות וארגונים במאבק נגד שקיות הפלסטיק בארץ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"/>
          <p:cNvSpPr/>
          <p:nvPr/>
        </p:nvSpPr>
        <p:spPr>
          <a:xfrm>
            <a:off x="533520" y="6381720"/>
            <a:ext cx="8135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cs typeface="David"/>
              </a:rPr>
              <a:t>הופץ על ידי "שלח לחמך".           מערכת הפצת הטוב של פרויקט אגורה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Davi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11" descr="syg-transparent"/>
          <p:cNvPicPr/>
          <p:nvPr/>
        </p:nvPicPr>
        <p:blipFill>
          <a:blip r:embed="rId2"/>
          <a:stretch/>
        </p:blipFill>
        <p:spPr>
          <a:xfrm>
            <a:off x="4997520" y="6093000"/>
            <a:ext cx="7016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0" y="114300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ere Do They G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1371600" y="2590920"/>
            <a:ext cx="69343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3399"/>
                </a:solidFill>
                <a:latin typeface="Arial"/>
                <a:cs typeface="Arial"/>
              </a:rPr>
              <a:t>אז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800" spc="-1" strike="noStrike">
                <a:solidFill>
                  <a:srgbClr val="ff3399"/>
                </a:solidFill>
                <a:latin typeface="Arial"/>
                <a:cs typeface="Arial"/>
              </a:rPr>
              <a:t>לאן הולכות השקיות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3"/>
          <p:cNvPicPr/>
          <p:nvPr/>
        </p:nvPicPr>
        <p:blipFill>
          <a:blip r:embed="rId1"/>
          <a:stretch/>
        </p:blipFill>
        <p:spPr>
          <a:xfrm>
            <a:off x="0" y="2666880"/>
            <a:ext cx="4952880" cy="371808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3"/>
          <p:cNvSpPr/>
          <p:nvPr/>
        </p:nvSpPr>
        <p:spPr>
          <a:xfrm>
            <a:off x="457200" y="304920"/>
            <a:ext cx="8381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 study in 1975, showed oceangoing vessels together dumped 8 million pounds of plastic annually. The real reason that the world's landfills weren't overflowing with plastic was because most of it ended up in an ocean-fil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U.S. National Academy of Sci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457200" y="1371600"/>
            <a:ext cx="8229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3399"/>
                </a:solidFill>
                <a:latin typeface="Arial"/>
                <a:cs typeface="Arial"/>
              </a:rPr>
              <a:t>מחקר שנערך ב-</a:t>
            </a:r>
            <a:r>
              <a:rPr b="0" lang="he-IL" sz="2800" spc="-1" strike="noStrike">
                <a:solidFill>
                  <a:srgbClr val="ff3399"/>
                </a:solidFill>
                <a:latin typeface="Arial"/>
                <a:ea typeface="Arial"/>
              </a:rPr>
              <a:t>1975</a:t>
            </a:r>
            <a:r>
              <a:rPr b="0" lang="he-IL" sz="2800" spc="-1" strike="noStrike">
                <a:solidFill>
                  <a:srgbClr val="ff3399"/>
                </a:solidFill>
                <a:latin typeface="Arial"/>
                <a:ea typeface="Arial"/>
              </a:rPr>
              <a:t> הראה שמכלי שי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3399"/>
                </a:solidFill>
                <a:latin typeface="Arial"/>
                <a:cs typeface="Arial"/>
              </a:rPr>
              <a:t>השליכו כ-</a:t>
            </a:r>
            <a:r>
              <a:rPr b="0" lang="he-IL" sz="2800" spc="-1" strike="noStrike">
                <a:solidFill>
                  <a:srgbClr val="ff3399"/>
                </a:solidFill>
                <a:latin typeface="Arial"/>
                <a:ea typeface="Arial"/>
              </a:rPr>
              <a:t>3600</a:t>
            </a:r>
            <a:r>
              <a:rPr b="0" lang="he-IL" sz="2800" spc="-1" strike="noStrike">
                <a:solidFill>
                  <a:srgbClr val="ff3399"/>
                </a:solidFill>
                <a:latin typeface="Arial"/>
                <a:ea typeface="Arial"/>
              </a:rPr>
              <a:t> טון פלסטיק בשנה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3399"/>
                </a:solidFill>
                <a:latin typeface="Arial"/>
                <a:cs typeface="Arial"/>
              </a:rPr>
              <a:t>הגורם לכך שמצבורי אשפ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3399"/>
                </a:solidFill>
                <a:latin typeface="Arial"/>
                <a:cs typeface="Arial"/>
              </a:rPr>
              <a:t>יבשתיים לא הוצפו בפלסטי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3399"/>
                </a:solidFill>
                <a:latin typeface="Arial"/>
                <a:cs typeface="Arial"/>
              </a:rPr>
              <a:t>הוא שרוב הפלסטיק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3399"/>
                </a:solidFill>
                <a:latin typeface="Arial"/>
                <a:cs typeface="Arial"/>
              </a:rPr>
              <a:t>סיים את דרכו באוקיינו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9"/>
          <p:cNvPicPr/>
          <p:nvPr/>
        </p:nvPicPr>
        <p:blipFill>
          <a:blip r:embed="rId1"/>
          <a:stretch/>
        </p:blipFill>
        <p:spPr>
          <a:xfrm>
            <a:off x="2590920" y="0"/>
            <a:ext cx="4378320" cy="52578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3"/>
          <p:cNvSpPr/>
          <p:nvPr/>
        </p:nvSpPr>
        <p:spPr>
          <a:xfrm>
            <a:off x="152280" y="518148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ags get blown aroun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685800" y="59436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3399"/>
                </a:solidFill>
                <a:latin typeface="Arial"/>
                <a:cs typeface="Arial"/>
              </a:rPr>
              <a:t>השקיות מתעופפות להן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3"/>
          <p:cNvSpPr/>
          <p:nvPr/>
        </p:nvSpPr>
        <p:spPr>
          <a:xfrm>
            <a:off x="2133720" y="62164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o different parts of our 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848720" cy="480060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5"/>
          <p:cNvSpPr/>
          <p:nvPr/>
        </p:nvSpPr>
        <p:spPr>
          <a:xfrm>
            <a:off x="533520" y="52578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3399"/>
                </a:solidFill>
                <a:latin typeface="Arial"/>
                <a:ea typeface="Arial"/>
              </a:rPr>
              <a:t>......</a:t>
            </a:r>
            <a:r>
              <a:rPr b="1" lang="he-IL" sz="3600" spc="-1" strike="noStrike">
                <a:solidFill>
                  <a:srgbClr val="ff3399"/>
                </a:solidFill>
                <a:latin typeface="Arial"/>
                <a:cs typeface="Arial"/>
              </a:rPr>
              <a:t>ומגיעות למקומות שונים על פני כדור האר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3"/>
          <p:cNvSpPr/>
          <p:nvPr/>
        </p:nvSpPr>
        <p:spPr>
          <a:xfrm>
            <a:off x="1523880" y="52578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d to our seas, lakes and riv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914400" y="62784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ff3399"/>
                </a:solidFill>
                <a:latin typeface="Arial"/>
                <a:ea typeface="Arial"/>
              </a:rPr>
              <a:t>...גם לימים, לאגמים ולנחלים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6" descr="1"/>
          <p:cNvPicPr/>
          <p:nvPr/>
        </p:nvPicPr>
        <p:blipFill>
          <a:blip r:embed="rId1"/>
          <a:stretch/>
        </p:blipFill>
        <p:spPr>
          <a:xfrm>
            <a:off x="1219320" y="1676520"/>
            <a:ext cx="6858000" cy="429408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8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gs find their way into the sea via drains and sewage pipe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9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tecnhology November 1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304920" y="13716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ff3399"/>
                </a:solidFill>
                <a:latin typeface="Arial"/>
                <a:cs typeface="Arial"/>
              </a:rPr>
              <a:t>שקיות מוצאות דרכן גם  לצינורות ניקוז וביו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1:55:59Z</dcterms:created>
  <dc:creator>Vishal Mody</dc:creator>
  <dc:description/>
  <dc:language>en-US</dc:language>
  <cp:lastModifiedBy>ירון בן-עמי</cp:lastModifiedBy>
  <dcterms:modified xsi:type="dcterms:W3CDTF">2013-04-24T13:21:57Z</dcterms:modified>
  <cp:revision>135</cp:revision>
  <dc:subject/>
  <dc:title>The Dangers of Plastic Bags</dc:title>
</cp:coreProperties>
</file>